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gif" ContentType="image/gif"/>
  <Override PartName="/ppt/media/image8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8DF1-231A-42A9-B6BA-AA2DADCEB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AAD1-B889-4488-BF22-8EA3A4D45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ubTitle"/>
          </p:nvPr>
        </p:nvSpPr>
        <p:spPr>
          <a:xfrm>
            <a:off x="74088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65076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65606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74088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/>
          </p:nvPr>
        </p:nvSpPr>
        <p:spPr>
          <a:xfrm>
            <a:off x="365076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47" name="PlaceHolder 7"/>
          <p:cNvSpPr>
            <a:spLocks noGrp="1"/>
          </p:cNvSpPr>
          <p:nvPr>
            <p:ph/>
          </p:nvPr>
        </p:nvSpPr>
        <p:spPr>
          <a:xfrm>
            <a:off x="65606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2FC5-093C-4071-9F9F-D74BA5B09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74088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5076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606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088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5076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606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0F5B-BCFF-415B-915F-BC4F50E96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65076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5606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74088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65076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5606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ubTitle"/>
          </p:nvPr>
        </p:nvSpPr>
        <p:spPr>
          <a:xfrm>
            <a:off x="74088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365076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65606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74088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41" name="PlaceHolder 6"/>
          <p:cNvSpPr>
            <a:spLocks noGrp="1"/>
          </p:cNvSpPr>
          <p:nvPr>
            <p:ph/>
          </p:nvPr>
        </p:nvSpPr>
        <p:spPr>
          <a:xfrm>
            <a:off x="365076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42" name="PlaceHolder 7"/>
          <p:cNvSpPr>
            <a:spLocks noGrp="1"/>
          </p:cNvSpPr>
          <p:nvPr>
            <p:ph/>
          </p:nvPr>
        </p:nvSpPr>
        <p:spPr>
          <a:xfrm>
            <a:off x="65606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ubTitle"/>
          </p:nvPr>
        </p:nvSpPr>
        <p:spPr>
          <a:xfrm>
            <a:off x="74088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365076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65606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/>
          </p:nvPr>
        </p:nvSpPr>
        <p:spPr>
          <a:xfrm>
            <a:off x="74088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79" name="PlaceHolder 6"/>
          <p:cNvSpPr>
            <a:spLocks noGrp="1"/>
          </p:cNvSpPr>
          <p:nvPr>
            <p:ph/>
          </p:nvPr>
        </p:nvSpPr>
        <p:spPr>
          <a:xfrm>
            <a:off x="365076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80" name="PlaceHolder 7"/>
          <p:cNvSpPr>
            <a:spLocks noGrp="1"/>
          </p:cNvSpPr>
          <p:nvPr>
            <p:ph/>
          </p:nvPr>
        </p:nvSpPr>
        <p:spPr>
          <a:xfrm>
            <a:off x="65606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74088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65076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5606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74088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65076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5606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subTitle"/>
          </p:nvPr>
        </p:nvSpPr>
        <p:spPr>
          <a:xfrm>
            <a:off x="74088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56" name="PlaceHolder 5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365076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65606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61" name="PlaceHolder 5"/>
          <p:cNvSpPr>
            <a:spLocks noGrp="1"/>
          </p:cNvSpPr>
          <p:nvPr>
            <p:ph/>
          </p:nvPr>
        </p:nvSpPr>
        <p:spPr>
          <a:xfrm>
            <a:off x="74088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62" name="PlaceHolder 6"/>
          <p:cNvSpPr>
            <a:spLocks noGrp="1"/>
          </p:cNvSpPr>
          <p:nvPr>
            <p:ph/>
          </p:nvPr>
        </p:nvSpPr>
        <p:spPr>
          <a:xfrm>
            <a:off x="365076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63" name="PlaceHolder 7"/>
          <p:cNvSpPr>
            <a:spLocks noGrp="1"/>
          </p:cNvSpPr>
          <p:nvPr>
            <p:ph/>
          </p:nvPr>
        </p:nvSpPr>
        <p:spPr>
          <a:xfrm>
            <a:off x="65606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subTitle"/>
          </p:nvPr>
        </p:nvSpPr>
        <p:spPr>
          <a:xfrm>
            <a:off x="74088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00" name="PlaceHolder 5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74088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365076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65606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05" name="PlaceHolder 5"/>
          <p:cNvSpPr>
            <a:spLocks noGrp="1"/>
          </p:cNvSpPr>
          <p:nvPr>
            <p:ph/>
          </p:nvPr>
        </p:nvSpPr>
        <p:spPr>
          <a:xfrm>
            <a:off x="74088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06" name="PlaceHolder 6"/>
          <p:cNvSpPr>
            <a:spLocks noGrp="1"/>
          </p:cNvSpPr>
          <p:nvPr>
            <p:ph/>
          </p:nvPr>
        </p:nvSpPr>
        <p:spPr>
          <a:xfrm>
            <a:off x="365076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07" name="PlaceHolder 7"/>
          <p:cNvSpPr>
            <a:spLocks noGrp="1"/>
          </p:cNvSpPr>
          <p:nvPr>
            <p:ph/>
          </p:nvPr>
        </p:nvSpPr>
        <p:spPr>
          <a:xfrm>
            <a:off x="65606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subTitle"/>
          </p:nvPr>
        </p:nvSpPr>
        <p:spPr>
          <a:xfrm>
            <a:off x="74088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365076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65606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74088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45" name="PlaceHolder 6"/>
          <p:cNvSpPr>
            <a:spLocks noGrp="1"/>
          </p:cNvSpPr>
          <p:nvPr>
            <p:ph/>
          </p:nvPr>
        </p:nvSpPr>
        <p:spPr>
          <a:xfrm>
            <a:off x="365076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46" name="PlaceHolder 7"/>
          <p:cNvSpPr>
            <a:spLocks noGrp="1"/>
          </p:cNvSpPr>
          <p:nvPr>
            <p:ph/>
          </p:nvPr>
        </p:nvSpPr>
        <p:spPr>
          <a:xfrm>
            <a:off x="65606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450A-6043-48E8-9B87-6DA8CD8B1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5076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606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4088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5076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5606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6323-60A1-4674-B87B-F25813C66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74088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65076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5606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74088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65076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5606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CE71-2D52-4C37-980C-370081E6D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74088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65076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5606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74088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65076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5606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715A-6488-431E-887B-57BEC2961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74088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088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8F9C-5261-4028-9E9C-C999EB08E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65076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5606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74088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65076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5606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74088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B76D-C526-469B-A4DF-43A2CDFCB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65076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5606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74088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65076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5606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74088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3B35-276A-44B6-8477-01218B0D5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65076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5606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74088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39" name="PlaceHolder 6"/>
          <p:cNvSpPr>
            <a:spLocks noGrp="1"/>
          </p:cNvSpPr>
          <p:nvPr>
            <p:ph/>
          </p:nvPr>
        </p:nvSpPr>
        <p:spPr>
          <a:xfrm>
            <a:off x="365076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40" name="PlaceHolder 7"/>
          <p:cNvSpPr>
            <a:spLocks noGrp="1"/>
          </p:cNvSpPr>
          <p:nvPr>
            <p:ph/>
          </p:nvPr>
        </p:nvSpPr>
        <p:spPr>
          <a:xfrm>
            <a:off x="65606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D2BB-C84D-4785-AF76-D2508C04E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74088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365076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5606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74088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/>
          </p:nvPr>
        </p:nvSpPr>
        <p:spPr>
          <a:xfrm>
            <a:off x="365076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06" name="PlaceHolder 7"/>
          <p:cNvSpPr>
            <a:spLocks noGrp="1"/>
          </p:cNvSpPr>
          <p:nvPr>
            <p:ph/>
          </p:nvPr>
        </p:nvSpPr>
        <p:spPr>
          <a:xfrm>
            <a:off x="65606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2E0A9A-510C-401B-8014-D66E0DF4920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/>
          <p:nvPr/>
        </p:nvSpPr>
        <p:spPr>
          <a:xfrm>
            <a:off x="404640" y="1893960"/>
            <a:ext cx="9674280" cy="566568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0" y="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0" y="238140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0" y="116856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"/>
          <p:cNvSpPr/>
          <p:nvPr/>
        </p:nvSpPr>
        <p:spPr>
          <a:xfrm>
            <a:off x="0" y="0"/>
            <a:ext cx="10080720" cy="7559640"/>
          </a:xfrm>
          <a:prstGeom prst="roundRect">
            <a:avLst>
              <a:gd name="adj" fmla="val 19"/>
            </a:avLst>
          </a:prstGeom>
          <a:gradFill rotWithShape="0">
            <a:gsLst>
              <a:gs pos="0">
                <a:srgbClr val="eb613d"/>
              </a:gs>
              <a:gs pos="100000">
                <a:srgbClr val="8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7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730080" y="209988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0" y="0"/>
            <a:ext cx="1512720" cy="7559640"/>
          </a:xfrm>
          <a:custGeom>
            <a:avLst/>
            <a:gdLst>
              <a:gd name="textAreaLeft" fmla="*/ 360 w 1512720"/>
              <a:gd name="textAreaRight" fmla="*/ 1512360 w 151272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107923">
                <a:moveTo>
                  <a:pt x="22" y="0"/>
                </a:moveTo>
                <a:arcTo wR="22" hR="22" stAng="16200000" swAng="-5400000"/>
                <a:lnTo>
                  <a:pt x="0" y="107901"/>
                </a:lnTo>
                <a:arcTo wR="22" hR="22" stAng="10800000" swAng="-5400000"/>
                <a:lnTo>
                  <a:pt x="21578" y="107923"/>
                </a:lnTo>
                <a:arcTo wR="22" hR="22" stAng="5400000" swAng="-5400000"/>
                <a:lnTo>
                  <a:pt x="21600" y="22"/>
                </a:lnTo>
                <a:arcTo wR="22" hR="22" stAng="0" swAng="-5400000"/>
                <a:close/>
              </a:path>
            </a:pathLst>
          </a:custGeom>
          <a:solidFill>
            <a:srgbClr val="000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1527120" y="0"/>
            <a:ext cx="38160" cy="7559640"/>
          </a:xfrm>
          <a:custGeom>
            <a:avLst/>
            <a:gdLst>
              <a:gd name="textAreaLeft" fmla="*/ 360 w 38160"/>
              <a:gd name="textAreaRight" fmla="*/ 37800 w 3816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4239252">
                <a:moveTo>
                  <a:pt x="900" y="0"/>
                </a:moveTo>
                <a:arcTo wR="900" hR="900" stAng="16200000" swAng="-5400000"/>
                <a:lnTo>
                  <a:pt x="0" y="4238352"/>
                </a:lnTo>
                <a:arcTo wR="900" hR="900" stAng="10800000" swAng="-5400000"/>
                <a:lnTo>
                  <a:pt x="20700" y="4239252"/>
                </a:lnTo>
                <a:arcTo wR="900" hR="900" stAng="5400000" swAng="-5400000"/>
                <a:lnTo>
                  <a:pt x="21600" y="900"/>
                </a:lnTo>
                <a:arcTo wR="900" hR="900" stAng="0" swAng="-5400000"/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8207280" y="7477200"/>
            <a:ext cx="60012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8207280" y="7332840"/>
            <a:ext cx="6001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8207280" y="7175520"/>
            <a:ext cx="60012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8207280" y="7032600"/>
            <a:ext cx="6001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8207280" y="6877080"/>
            <a:ext cx="60012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8207280" y="6732720"/>
            <a:ext cx="6001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8937720" y="7477200"/>
            <a:ext cx="60012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8937720" y="7332840"/>
            <a:ext cx="6001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8937720" y="7175520"/>
            <a:ext cx="60012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8937720" y="7032600"/>
            <a:ext cx="6001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8937720" y="6877080"/>
            <a:ext cx="60012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8937720" y="6732720"/>
            <a:ext cx="6001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"/>
          <p:cNvSpPr/>
          <p:nvPr/>
        </p:nvSpPr>
        <p:spPr>
          <a:xfrm>
            <a:off x="615960" y="7032600"/>
            <a:ext cx="8910720" cy="1440"/>
          </a:xfrm>
          <a:prstGeom prst="line">
            <a:avLst/>
          </a:prstGeom>
          <a:ln w="36000">
            <a:solidFill>
              <a:srgbClr val="263e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615960" y="1273320"/>
            <a:ext cx="8910720" cy="1440"/>
          </a:xfrm>
          <a:prstGeom prst="line">
            <a:avLst/>
          </a:prstGeom>
          <a:ln w="36000">
            <a:solidFill>
              <a:srgbClr val="263e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615960" y="7148520"/>
            <a:ext cx="2576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8513640" y="7115040"/>
            <a:ext cx="10954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D6ECCCDB-7583-4033-BA86-8867BF03139E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682560" y="465120"/>
            <a:ext cx="615960" cy="615960"/>
          </a:xfrm>
          <a:prstGeom prst="roundRect">
            <a:avLst>
              <a:gd name="adj" fmla="val 255"/>
            </a:avLst>
          </a:prstGeom>
          <a:noFill/>
          <a:ln w="36000">
            <a:solidFill>
              <a:srgbClr val="263e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861840" y="285840"/>
            <a:ext cx="615960" cy="615960"/>
          </a:xfrm>
          <a:prstGeom prst="roundRect">
            <a:avLst>
              <a:gd name="adj" fmla="val 255"/>
            </a:avLst>
          </a:prstGeom>
          <a:noFill/>
          <a:ln w="36000">
            <a:solidFill>
              <a:srgbClr val="263e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1077840" y="574560"/>
            <a:ext cx="615960" cy="615960"/>
          </a:xfrm>
          <a:prstGeom prst="roundRect">
            <a:avLst>
              <a:gd name="adj" fmla="val 255"/>
            </a:avLst>
          </a:prstGeom>
          <a:noFill/>
          <a:ln w="36000">
            <a:solidFill>
              <a:srgbClr val="263e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Bitstream Vera Serif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61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erif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 lvl="1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erif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 lvl="2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erif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 lvl="3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erif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 lvl="4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erif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 lvl="5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erif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 lvl="6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erif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"/>
          <p:cNvSpPr/>
          <p:nvPr/>
        </p:nvSpPr>
        <p:spPr>
          <a:xfrm>
            <a:off x="9180360" y="6659640"/>
            <a:ext cx="900360" cy="900000"/>
          </a:xfrm>
          <a:custGeom>
            <a:avLst/>
            <a:gdLst/>
            <a:ahLst/>
            <a:rect l="l" t="t" r="r" b="b"/>
            <a:pathLst>
              <a:path w="2501" h="2501">
                <a:moveTo>
                  <a:pt x="0" y="2499"/>
                </a:moveTo>
                <a:lnTo>
                  <a:pt x="2499" y="0"/>
                </a:lnTo>
                <a:lnTo>
                  <a:pt x="2500" y="2500"/>
                </a:lnTo>
                <a:lnTo>
                  <a:pt x="0" y="2499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0" y="0"/>
            <a:ext cx="10078920" cy="711360"/>
          </a:xfrm>
          <a:prstGeom prst="roundRect">
            <a:avLst>
              <a:gd name="adj" fmla="val 222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720720" y="0"/>
            <a:ext cx="89978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268200" y="1079640"/>
            <a:ext cx="9547200" cy="63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8" name="" descr=""/>
          <p:cNvPicPr/>
          <p:nvPr/>
        </p:nvPicPr>
        <p:blipFill>
          <a:blip r:embed="rId2"/>
          <a:stretch/>
        </p:blipFill>
        <p:spPr>
          <a:xfrm>
            <a:off x="9480600" y="6985080"/>
            <a:ext cx="480960" cy="453960"/>
          </a:xfrm>
          <a:prstGeom prst="rect">
            <a:avLst/>
          </a:prstGeom>
          <a:ln w="0">
            <a:noFill/>
          </a:ln>
        </p:spPr>
      </p:pic>
      <p:pic>
        <p:nvPicPr>
          <p:cNvPr id="769" name="" descr=""/>
          <p:cNvPicPr/>
          <p:nvPr/>
        </p:nvPicPr>
        <p:blipFill>
          <a:blip r:embed="rId3"/>
          <a:stretch/>
        </p:blipFill>
        <p:spPr>
          <a:xfrm>
            <a:off x="179280" y="101520"/>
            <a:ext cx="457200" cy="438120"/>
          </a:xfrm>
          <a:prstGeom prst="rect">
            <a:avLst/>
          </a:prstGeom>
          <a:ln w="0">
            <a:noFill/>
          </a:ln>
        </p:spPr>
      </p:pic>
      <p:sp>
        <p:nvSpPr>
          <p:cNvPr id="770" name=""/>
          <p:cNvSpPr/>
          <p:nvPr/>
        </p:nvSpPr>
        <p:spPr>
          <a:xfrm rot="21000000">
            <a:off x="9240480" y="7076880"/>
            <a:ext cx="86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24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147B9895-C54A-4818-8B37-8486765B45F4}" type="slidenum">
              <a:rPr b="0" lang="ru-RU" sz="16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1" name="" descr=""/>
          <p:cNvPicPr/>
          <p:nvPr/>
        </p:nvPicPr>
        <p:blipFill>
          <a:blip r:embed="rId4"/>
          <a:stretch/>
        </p:blipFill>
        <p:spPr>
          <a:xfrm>
            <a:off x="0" y="4432320"/>
            <a:ext cx="2906640" cy="3127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a64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7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pic>
        <p:nvPicPr>
          <p:cNvPr id="810" name="" descr=""/>
          <p:cNvPicPr/>
          <p:nvPr/>
        </p:nvPicPr>
        <p:blipFill>
          <a:blip r:embed="rId2"/>
          <a:stretch/>
        </p:blipFill>
        <p:spPr>
          <a:xfrm>
            <a:off x="7462800" y="4829040"/>
            <a:ext cx="2616120" cy="2548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049480"/>
            <a:ext cx="612720" cy="5511960"/>
          </a:xfrm>
          <a:custGeom>
            <a:avLst/>
            <a:gdLst>
              <a:gd name="textAreaLeft" fmla="*/ 360 w 612720"/>
              <a:gd name="textAreaRight" fmla="*/ 612360 w 612720"/>
              <a:gd name="textAreaTop" fmla="*/ 360 h 5511960"/>
              <a:gd name="textAreaBottom" fmla="*/ 5511600 h 5511960"/>
            </a:gdLst>
            <a:ahLst/>
            <a:rect l="textAreaLeft" t="textAreaTop" r="textAreaRight" b="textAreaBottom"/>
            <a:pathLst>
              <a:path w="21600" h="194210">
                <a:moveTo>
                  <a:pt x="55" y="0"/>
                </a:moveTo>
                <a:arcTo wR="55" hR="55" stAng="16200000" swAng="-5400000"/>
                <a:lnTo>
                  <a:pt x="0" y="194155"/>
                </a:lnTo>
                <a:arcTo wR="55" hR="55" stAng="10800000" swAng="-5400000"/>
                <a:lnTo>
                  <a:pt x="21545" y="194210"/>
                </a:lnTo>
                <a:arcTo wR="55" hR="55" stAng="5400000" swAng="-5400000"/>
                <a:lnTo>
                  <a:pt x="21600" y="55"/>
                </a:lnTo>
                <a:arcTo wR="55" hR="55" stAng="0" swAng="-5400000"/>
                <a:close/>
              </a:path>
            </a:pathLst>
          </a:custGeom>
          <a:solidFill>
            <a:srgbClr val="dc2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17480" y="0"/>
            <a:ext cx="9363240" cy="1917720"/>
          </a:xfrm>
          <a:prstGeom prst="roundRect">
            <a:avLst>
              <a:gd name="adj" fmla="val 7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40880" y="2387160"/>
            <a:ext cx="86058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905120"/>
            <a:ext cx="10080720" cy="195120"/>
          </a:xfrm>
          <a:prstGeom prst="roundRect">
            <a:avLst>
              <a:gd name="adj" fmla="val 819"/>
            </a:avLst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47560" y="0"/>
            <a:ext cx="182520" cy="755964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892913">
                <a:moveTo>
                  <a:pt x="189" y="0"/>
                </a:moveTo>
                <a:arcTo wR="189" hR="189" stAng="16200000" swAng="-5400000"/>
                <a:lnTo>
                  <a:pt x="0" y="892724"/>
                </a:lnTo>
                <a:arcTo wR="189" hR="189" stAng="10800000" swAng="-5400000"/>
                <a:lnTo>
                  <a:pt x="21411" y="892913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2049480"/>
            <a:ext cx="612720" cy="5511960"/>
          </a:xfrm>
          <a:custGeom>
            <a:avLst/>
            <a:gdLst>
              <a:gd name="textAreaLeft" fmla="*/ 360 w 612720"/>
              <a:gd name="textAreaRight" fmla="*/ 612360 w 612720"/>
              <a:gd name="textAreaTop" fmla="*/ 360 h 5511960"/>
              <a:gd name="textAreaBottom" fmla="*/ 5511600 h 5511960"/>
            </a:gdLst>
            <a:ahLst/>
            <a:rect l="textAreaLeft" t="textAreaTop" r="textAreaRight" b="textAreaBottom"/>
            <a:pathLst>
              <a:path w="21600" h="194210">
                <a:moveTo>
                  <a:pt x="55" y="0"/>
                </a:moveTo>
                <a:arcTo wR="55" hR="55" stAng="16200000" swAng="-5400000"/>
                <a:lnTo>
                  <a:pt x="0" y="194155"/>
                </a:lnTo>
                <a:arcTo wR="55" hR="55" stAng="10800000" swAng="-5400000"/>
                <a:lnTo>
                  <a:pt x="21545" y="194210"/>
                </a:lnTo>
                <a:arcTo wR="55" hR="55" stAng="5400000" swAng="-5400000"/>
                <a:lnTo>
                  <a:pt x="21600" y="55"/>
                </a:lnTo>
                <a:arcTo wR="55" hR="55" stAng="0" swAng="-5400000"/>
                <a:close/>
              </a:path>
            </a:pathLst>
          </a:custGeom>
          <a:solidFill>
            <a:srgbClr val="dc2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7480" y="0"/>
            <a:ext cx="9363240" cy="1917720"/>
          </a:xfrm>
          <a:prstGeom prst="roundRect">
            <a:avLst>
              <a:gd name="adj" fmla="val 7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40880" y="2387160"/>
            <a:ext cx="86058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1905120"/>
            <a:ext cx="10080720" cy="195120"/>
          </a:xfrm>
          <a:prstGeom prst="roundRect">
            <a:avLst>
              <a:gd name="adj" fmla="val 819"/>
            </a:avLst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47560" y="0"/>
            <a:ext cx="182520" cy="755964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892913">
                <a:moveTo>
                  <a:pt x="189" y="0"/>
                </a:moveTo>
                <a:arcTo wR="189" hR="189" stAng="16200000" swAng="-5400000"/>
                <a:lnTo>
                  <a:pt x="0" y="892724"/>
                </a:lnTo>
                <a:arcTo wR="189" hR="189" stAng="10800000" swAng="-5400000"/>
                <a:lnTo>
                  <a:pt x="21411" y="892913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8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2400" spc="-1" strike="noStrike">
                <a:solidFill>
                  <a:srgbClr val="ff9966"/>
                </a:solidFill>
                <a:latin typeface="Arial"/>
              </a:rPr>
              <a:t>Click to edit the title text format</a:t>
            </a: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741240" y="1963800"/>
            <a:ext cx="8771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25400" y="7077240"/>
            <a:ext cx="935532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987560" y="7289640"/>
            <a:ext cx="809316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1" name=""/>
          <p:cNvGrpSpPr/>
          <p:nvPr/>
        </p:nvGrpSpPr>
        <p:grpSpPr>
          <a:xfrm>
            <a:off x="0" y="179280"/>
            <a:ext cx="10078920" cy="719280"/>
            <a:chOff x="0" y="179280"/>
            <a:chExt cx="10078920" cy="719280"/>
          </a:xfrm>
        </p:grpSpPr>
        <p:sp>
          <p:nvSpPr>
            <p:cNvPr id="242" name=""/>
            <p:cNvSpPr/>
            <p:nvPr/>
          </p:nvSpPr>
          <p:spPr>
            <a:xfrm>
              <a:off x="0" y="179280"/>
              <a:ext cx="100789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0" y="359640"/>
              <a:ext cx="100789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4" name=""/>
            <p:cNvGrpSpPr/>
            <p:nvPr/>
          </p:nvGrpSpPr>
          <p:grpSpPr>
            <a:xfrm>
              <a:off x="0" y="538920"/>
              <a:ext cx="10077120" cy="0"/>
              <a:chOff x="0" y="538920"/>
              <a:chExt cx="10077120" cy="0"/>
            </a:xfrm>
          </p:grpSpPr>
          <p:sp>
            <p:nvSpPr>
              <p:cNvPr id="245" name=""/>
              <p:cNvSpPr/>
              <p:nvPr/>
            </p:nvSpPr>
            <p:spPr>
              <a:xfrm>
                <a:off x="0" y="538920"/>
                <a:ext cx="100771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 txBox="1"/>
              <p:nvPr/>
            </p:nvSpPr>
            <p:spPr>
              <a:xfrm>
                <a:off x="0" y="0"/>
                <a:ext cx="0" cy="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-1512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7" name=""/>
            <p:cNvGrpSpPr/>
            <p:nvPr/>
          </p:nvGrpSpPr>
          <p:grpSpPr>
            <a:xfrm>
              <a:off x="0" y="719280"/>
              <a:ext cx="10077120" cy="0"/>
              <a:chOff x="0" y="719280"/>
              <a:chExt cx="10077120" cy="0"/>
            </a:xfrm>
          </p:grpSpPr>
          <p:sp>
            <p:nvSpPr>
              <p:cNvPr id="248" name=""/>
              <p:cNvSpPr/>
              <p:nvPr/>
            </p:nvSpPr>
            <p:spPr>
              <a:xfrm>
                <a:off x="0" y="719280"/>
                <a:ext cx="100771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 txBox="1"/>
              <p:nvPr/>
            </p:nvSpPr>
            <p:spPr>
              <a:xfrm>
                <a:off x="0" y="0"/>
                <a:ext cx="0" cy="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-1512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0" name=""/>
            <p:cNvGrpSpPr/>
            <p:nvPr/>
          </p:nvGrpSpPr>
          <p:grpSpPr>
            <a:xfrm>
              <a:off x="0" y="898560"/>
              <a:ext cx="10077120" cy="0"/>
              <a:chOff x="0" y="898560"/>
              <a:chExt cx="10077120" cy="0"/>
            </a:xfrm>
          </p:grpSpPr>
          <p:sp>
            <p:nvSpPr>
              <p:cNvPr id="251" name=""/>
              <p:cNvSpPr/>
              <p:nvPr/>
            </p:nvSpPr>
            <p:spPr>
              <a:xfrm>
                <a:off x="0" y="898560"/>
                <a:ext cx="100771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 txBox="1"/>
              <p:nvPr/>
            </p:nvSpPr>
            <p:spPr>
              <a:xfrm>
                <a:off x="0" y="0"/>
                <a:ext cx="0" cy="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-1512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3" name=""/>
          <p:cNvGrpSpPr/>
          <p:nvPr/>
        </p:nvGrpSpPr>
        <p:grpSpPr>
          <a:xfrm>
            <a:off x="0" y="1079640"/>
            <a:ext cx="10078920" cy="718920"/>
            <a:chOff x="0" y="1079640"/>
            <a:chExt cx="10078920" cy="718920"/>
          </a:xfrm>
        </p:grpSpPr>
        <p:sp>
          <p:nvSpPr>
            <p:cNvPr id="254" name=""/>
            <p:cNvSpPr/>
            <p:nvPr/>
          </p:nvSpPr>
          <p:spPr>
            <a:xfrm>
              <a:off x="0" y="1079640"/>
              <a:ext cx="100789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0" y="1259640"/>
              <a:ext cx="100789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6" name=""/>
            <p:cNvGrpSpPr/>
            <p:nvPr/>
          </p:nvGrpSpPr>
          <p:grpSpPr>
            <a:xfrm>
              <a:off x="0" y="1438920"/>
              <a:ext cx="10077120" cy="0"/>
              <a:chOff x="0" y="1438920"/>
              <a:chExt cx="10077120" cy="0"/>
            </a:xfrm>
          </p:grpSpPr>
          <p:sp>
            <p:nvSpPr>
              <p:cNvPr id="257" name=""/>
              <p:cNvSpPr/>
              <p:nvPr/>
            </p:nvSpPr>
            <p:spPr>
              <a:xfrm>
                <a:off x="0" y="1438920"/>
                <a:ext cx="100771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 txBox="1"/>
              <p:nvPr/>
            </p:nvSpPr>
            <p:spPr>
              <a:xfrm>
                <a:off x="0" y="0"/>
                <a:ext cx="0" cy="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-1512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9" name=""/>
            <p:cNvGrpSpPr/>
            <p:nvPr/>
          </p:nvGrpSpPr>
          <p:grpSpPr>
            <a:xfrm>
              <a:off x="0" y="1617840"/>
              <a:ext cx="10077120" cy="0"/>
              <a:chOff x="0" y="1617840"/>
              <a:chExt cx="10077120" cy="0"/>
            </a:xfrm>
          </p:grpSpPr>
          <p:sp>
            <p:nvSpPr>
              <p:cNvPr id="260" name=""/>
              <p:cNvSpPr/>
              <p:nvPr/>
            </p:nvSpPr>
            <p:spPr>
              <a:xfrm>
                <a:off x="0" y="1617840"/>
                <a:ext cx="100771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 txBox="1"/>
              <p:nvPr/>
            </p:nvSpPr>
            <p:spPr>
              <a:xfrm>
                <a:off x="0" y="0"/>
                <a:ext cx="0" cy="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-1512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2" name=""/>
            <p:cNvGrpSpPr/>
            <p:nvPr/>
          </p:nvGrpSpPr>
          <p:grpSpPr>
            <a:xfrm>
              <a:off x="0" y="1798560"/>
              <a:ext cx="10077120" cy="0"/>
              <a:chOff x="0" y="1798560"/>
              <a:chExt cx="10077120" cy="0"/>
            </a:xfrm>
          </p:grpSpPr>
          <p:sp>
            <p:nvSpPr>
              <p:cNvPr id="263" name=""/>
              <p:cNvSpPr/>
              <p:nvPr/>
            </p:nvSpPr>
            <p:spPr>
              <a:xfrm>
                <a:off x="0" y="1798560"/>
                <a:ext cx="100771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 txBox="1"/>
              <p:nvPr/>
            </p:nvSpPr>
            <p:spPr>
              <a:xfrm>
                <a:off x="0" y="0"/>
                <a:ext cx="0" cy="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-1512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5" name=""/>
          <p:cNvGrpSpPr/>
          <p:nvPr/>
        </p:nvGrpSpPr>
        <p:grpSpPr>
          <a:xfrm>
            <a:off x="0" y="1979640"/>
            <a:ext cx="10078920" cy="719280"/>
            <a:chOff x="0" y="1979640"/>
            <a:chExt cx="10078920" cy="719280"/>
          </a:xfrm>
        </p:grpSpPr>
        <p:sp>
          <p:nvSpPr>
            <p:cNvPr id="266" name=""/>
            <p:cNvSpPr/>
            <p:nvPr/>
          </p:nvSpPr>
          <p:spPr>
            <a:xfrm>
              <a:off x="0" y="1979640"/>
              <a:ext cx="100789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0" y="2160000"/>
              <a:ext cx="100789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8" name=""/>
            <p:cNvGrpSpPr/>
            <p:nvPr/>
          </p:nvGrpSpPr>
          <p:grpSpPr>
            <a:xfrm>
              <a:off x="0" y="2339280"/>
              <a:ext cx="10077120" cy="0"/>
              <a:chOff x="0" y="2339280"/>
              <a:chExt cx="10077120" cy="0"/>
            </a:xfrm>
          </p:grpSpPr>
          <p:sp>
            <p:nvSpPr>
              <p:cNvPr id="269" name=""/>
              <p:cNvSpPr/>
              <p:nvPr/>
            </p:nvSpPr>
            <p:spPr>
              <a:xfrm>
                <a:off x="0" y="2339280"/>
                <a:ext cx="100771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 txBox="1"/>
              <p:nvPr/>
            </p:nvSpPr>
            <p:spPr>
              <a:xfrm>
                <a:off x="0" y="0"/>
                <a:ext cx="0" cy="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-1512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1" name=""/>
            <p:cNvGrpSpPr/>
            <p:nvPr/>
          </p:nvGrpSpPr>
          <p:grpSpPr>
            <a:xfrm>
              <a:off x="0" y="2518200"/>
              <a:ext cx="10077120" cy="0"/>
              <a:chOff x="0" y="2518200"/>
              <a:chExt cx="10077120" cy="0"/>
            </a:xfrm>
          </p:grpSpPr>
          <p:sp>
            <p:nvSpPr>
              <p:cNvPr id="272" name=""/>
              <p:cNvSpPr/>
              <p:nvPr/>
            </p:nvSpPr>
            <p:spPr>
              <a:xfrm>
                <a:off x="0" y="2518200"/>
                <a:ext cx="100771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 txBox="1"/>
              <p:nvPr/>
            </p:nvSpPr>
            <p:spPr>
              <a:xfrm>
                <a:off x="0" y="0"/>
                <a:ext cx="0" cy="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-1512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0" y="2698920"/>
              <a:ext cx="10077120" cy="0"/>
              <a:chOff x="0" y="2698920"/>
              <a:chExt cx="10077120" cy="0"/>
            </a:xfrm>
          </p:grpSpPr>
          <p:sp>
            <p:nvSpPr>
              <p:cNvPr id="275" name=""/>
              <p:cNvSpPr/>
              <p:nvPr/>
            </p:nvSpPr>
            <p:spPr>
              <a:xfrm>
                <a:off x="0" y="2698920"/>
                <a:ext cx="100771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 txBox="1"/>
              <p:nvPr/>
            </p:nvSpPr>
            <p:spPr>
              <a:xfrm>
                <a:off x="0" y="0"/>
                <a:ext cx="0" cy="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-1512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7" name=""/>
          <p:cNvGrpSpPr/>
          <p:nvPr/>
        </p:nvGrpSpPr>
        <p:grpSpPr>
          <a:xfrm>
            <a:off x="0" y="2879640"/>
            <a:ext cx="10078920" cy="719280"/>
            <a:chOff x="0" y="2879640"/>
            <a:chExt cx="10078920" cy="719280"/>
          </a:xfrm>
        </p:grpSpPr>
        <p:sp>
          <p:nvSpPr>
            <p:cNvPr id="278" name=""/>
            <p:cNvSpPr/>
            <p:nvPr/>
          </p:nvSpPr>
          <p:spPr>
            <a:xfrm>
              <a:off x="0" y="2879640"/>
              <a:ext cx="100789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0" y="3060000"/>
              <a:ext cx="100789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0" y="3239280"/>
              <a:ext cx="10077120" cy="0"/>
              <a:chOff x="0" y="3239280"/>
              <a:chExt cx="10077120" cy="0"/>
            </a:xfrm>
          </p:grpSpPr>
          <p:sp>
            <p:nvSpPr>
              <p:cNvPr id="281" name=""/>
              <p:cNvSpPr/>
              <p:nvPr/>
            </p:nvSpPr>
            <p:spPr>
              <a:xfrm>
                <a:off x="0" y="3239280"/>
                <a:ext cx="100771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 txBox="1"/>
              <p:nvPr/>
            </p:nvSpPr>
            <p:spPr>
              <a:xfrm>
                <a:off x="0" y="0"/>
                <a:ext cx="0" cy="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-1512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0" y="3418560"/>
              <a:ext cx="10077120" cy="0"/>
              <a:chOff x="0" y="3418560"/>
              <a:chExt cx="10077120" cy="0"/>
            </a:xfrm>
          </p:grpSpPr>
          <p:sp>
            <p:nvSpPr>
              <p:cNvPr id="284" name=""/>
              <p:cNvSpPr/>
              <p:nvPr/>
            </p:nvSpPr>
            <p:spPr>
              <a:xfrm>
                <a:off x="0" y="3418560"/>
                <a:ext cx="100771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 txBox="1"/>
              <p:nvPr/>
            </p:nvSpPr>
            <p:spPr>
              <a:xfrm>
                <a:off x="0" y="0"/>
                <a:ext cx="0" cy="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-1512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0" y="3598920"/>
              <a:ext cx="10077120" cy="0"/>
              <a:chOff x="0" y="3598920"/>
              <a:chExt cx="10077120" cy="0"/>
            </a:xfrm>
          </p:grpSpPr>
          <p:sp>
            <p:nvSpPr>
              <p:cNvPr id="287" name=""/>
              <p:cNvSpPr/>
              <p:nvPr/>
            </p:nvSpPr>
            <p:spPr>
              <a:xfrm>
                <a:off x="0" y="3598920"/>
                <a:ext cx="100771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 txBox="1"/>
              <p:nvPr/>
            </p:nvSpPr>
            <p:spPr>
              <a:xfrm>
                <a:off x="0" y="0"/>
                <a:ext cx="0" cy="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-1512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9" name=""/>
          <p:cNvGrpSpPr/>
          <p:nvPr/>
        </p:nvGrpSpPr>
        <p:grpSpPr>
          <a:xfrm>
            <a:off x="0" y="3780000"/>
            <a:ext cx="10078920" cy="718920"/>
            <a:chOff x="0" y="3780000"/>
            <a:chExt cx="10078920" cy="718920"/>
          </a:xfrm>
        </p:grpSpPr>
        <p:sp>
          <p:nvSpPr>
            <p:cNvPr id="290" name=""/>
            <p:cNvSpPr/>
            <p:nvPr/>
          </p:nvSpPr>
          <p:spPr>
            <a:xfrm>
              <a:off x="0" y="3780000"/>
              <a:ext cx="100789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0" y="3958560"/>
              <a:ext cx="100789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2" name=""/>
            <p:cNvGrpSpPr/>
            <p:nvPr/>
          </p:nvGrpSpPr>
          <p:grpSpPr>
            <a:xfrm>
              <a:off x="0" y="4139280"/>
              <a:ext cx="10077120" cy="0"/>
              <a:chOff x="0" y="4139280"/>
              <a:chExt cx="10077120" cy="0"/>
            </a:xfrm>
          </p:grpSpPr>
          <p:sp>
            <p:nvSpPr>
              <p:cNvPr id="293" name=""/>
              <p:cNvSpPr/>
              <p:nvPr/>
            </p:nvSpPr>
            <p:spPr>
              <a:xfrm>
                <a:off x="0" y="4139280"/>
                <a:ext cx="100771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 txBox="1"/>
              <p:nvPr/>
            </p:nvSpPr>
            <p:spPr>
              <a:xfrm>
                <a:off x="0" y="0"/>
                <a:ext cx="0" cy="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-1512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5" name=""/>
            <p:cNvGrpSpPr/>
            <p:nvPr/>
          </p:nvGrpSpPr>
          <p:grpSpPr>
            <a:xfrm>
              <a:off x="0" y="4318200"/>
              <a:ext cx="10077120" cy="0"/>
              <a:chOff x="0" y="4318200"/>
              <a:chExt cx="10077120" cy="0"/>
            </a:xfrm>
          </p:grpSpPr>
          <p:sp>
            <p:nvSpPr>
              <p:cNvPr id="296" name=""/>
              <p:cNvSpPr/>
              <p:nvPr/>
            </p:nvSpPr>
            <p:spPr>
              <a:xfrm>
                <a:off x="0" y="4318200"/>
                <a:ext cx="100771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 txBox="1"/>
              <p:nvPr/>
            </p:nvSpPr>
            <p:spPr>
              <a:xfrm>
                <a:off x="0" y="0"/>
                <a:ext cx="0" cy="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-1512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8" name=""/>
            <p:cNvGrpSpPr/>
            <p:nvPr/>
          </p:nvGrpSpPr>
          <p:grpSpPr>
            <a:xfrm>
              <a:off x="0" y="4498920"/>
              <a:ext cx="10077120" cy="0"/>
              <a:chOff x="0" y="4498920"/>
              <a:chExt cx="10077120" cy="0"/>
            </a:xfrm>
          </p:grpSpPr>
          <p:sp>
            <p:nvSpPr>
              <p:cNvPr id="299" name=""/>
              <p:cNvSpPr/>
              <p:nvPr/>
            </p:nvSpPr>
            <p:spPr>
              <a:xfrm>
                <a:off x="0" y="4498920"/>
                <a:ext cx="100771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 txBox="1"/>
              <p:nvPr/>
            </p:nvSpPr>
            <p:spPr>
              <a:xfrm>
                <a:off x="0" y="0"/>
                <a:ext cx="0" cy="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-1512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1" name=""/>
          <p:cNvGrpSpPr/>
          <p:nvPr/>
        </p:nvGrpSpPr>
        <p:grpSpPr>
          <a:xfrm>
            <a:off x="0" y="4680000"/>
            <a:ext cx="10078920" cy="718920"/>
            <a:chOff x="0" y="4680000"/>
            <a:chExt cx="10078920" cy="718920"/>
          </a:xfrm>
        </p:grpSpPr>
        <p:sp>
          <p:nvSpPr>
            <p:cNvPr id="302" name=""/>
            <p:cNvSpPr/>
            <p:nvPr/>
          </p:nvSpPr>
          <p:spPr>
            <a:xfrm>
              <a:off x="0" y="4680000"/>
              <a:ext cx="100789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0" y="4858560"/>
              <a:ext cx="100789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4" name=""/>
            <p:cNvGrpSpPr/>
            <p:nvPr/>
          </p:nvGrpSpPr>
          <p:grpSpPr>
            <a:xfrm>
              <a:off x="0" y="5039280"/>
              <a:ext cx="10077120" cy="0"/>
              <a:chOff x="0" y="5039280"/>
              <a:chExt cx="10077120" cy="0"/>
            </a:xfrm>
          </p:grpSpPr>
          <p:sp>
            <p:nvSpPr>
              <p:cNvPr id="305" name=""/>
              <p:cNvSpPr/>
              <p:nvPr/>
            </p:nvSpPr>
            <p:spPr>
              <a:xfrm>
                <a:off x="0" y="5039280"/>
                <a:ext cx="100771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 txBox="1"/>
              <p:nvPr/>
            </p:nvSpPr>
            <p:spPr>
              <a:xfrm>
                <a:off x="0" y="0"/>
                <a:ext cx="0" cy="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-1512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7" name=""/>
            <p:cNvGrpSpPr/>
            <p:nvPr/>
          </p:nvGrpSpPr>
          <p:grpSpPr>
            <a:xfrm>
              <a:off x="0" y="5218200"/>
              <a:ext cx="10077120" cy="0"/>
              <a:chOff x="0" y="5218200"/>
              <a:chExt cx="10077120" cy="0"/>
            </a:xfrm>
          </p:grpSpPr>
          <p:sp>
            <p:nvSpPr>
              <p:cNvPr id="308" name=""/>
              <p:cNvSpPr/>
              <p:nvPr/>
            </p:nvSpPr>
            <p:spPr>
              <a:xfrm>
                <a:off x="0" y="5218200"/>
                <a:ext cx="100771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 txBox="1"/>
              <p:nvPr/>
            </p:nvSpPr>
            <p:spPr>
              <a:xfrm>
                <a:off x="0" y="0"/>
                <a:ext cx="0" cy="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-1512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0" name=""/>
            <p:cNvGrpSpPr/>
            <p:nvPr/>
          </p:nvGrpSpPr>
          <p:grpSpPr>
            <a:xfrm>
              <a:off x="0" y="5398920"/>
              <a:ext cx="10077120" cy="0"/>
              <a:chOff x="0" y="5398920"/>
              <a:chExt cx="10077120" cy="0"/>
            </a:xfrm>
          </p:grpSpPr>
          <p:sp>
            <p:nvSpPr>
              <p:cNvPr id="311" name=""/>
              <p:cNvSpPr/>
              <p:nvPr/>
            </p:nvSpPr>
            <p:spPr>
              <a:xfrm>
                <a:off x="0" y="5398920"/>
                <a:ext cx="100771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 txBox="1"/>
              <p:nvPr/>
            </p:nvSpPr>
            <p:spPr>
              <a:xfrm>
                <a:off x="0" y="0"/>
                <a:ext cx="0" cy="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-1512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13" name=""/>
          <p:cNvGrpSpPr/>
          <p:nvPr/>
        </p:nvGrpSpPr>
        <p:grpSpPr>
          <a:xfrm>
            <a:off x="0" y="5580000"/>
            <a:ext cx="10078920" cy="719280"/>
            <a:chOff x="0" y="5580000"/>
            <a:chExt cx="10078920" cy="719280"/>
          </a:xfrm>
        </p:grpSpPr>
        <p:sp>
          <p:nvSpPr>
            <p:cNvPr id="314" name=""/>
            <p:cNvSpPr/>
            <p:nvPr/>
          </p:nvSpPr>
          <p:spPr>
            <a:xfrm>
              <a:off x="0" y="5580000"/>
              <a:ext cx="100789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0" y="5758920"/>
              <a:ext cx="100789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6" name=""/>
            <p:cNvGrpSpPr/>
            <p:nvPr/>
          </p:nvGrpSpPr>
          <p:grpSpPr>
            <a:xfrm>
              <a:off x="0" y="5939640"/>
              <a:ext cx="10077120" cy="0"/>
              <a:chOff x="0" y="5939640"/>
              <a:chExt cx="10077120" cy="0"/>
            </a:xfrm>
          </p:grpSpPr>
          <p:sp>
            <p:nvSpPr>
              <p:cNvPr id="317" name=""/>
              <p:cNvSpPr/>
              <p:nvPr/>
            </p:nvSpPr>
            <p:spPr>
              <a:xfrm>
                <a:off x="0" y="5939640"/>
                <a:ext cx="100771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 txBox="1"/>
              <p:nvPr/>
            </p:nvSpPr>
            <p:spPr>
              <a:xfrm>
                <a:off x="0" y="0"/>
                <a:ext cx="0" cy="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-1512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9" name=""/>
            <p:cNvGrpSpPr/>
            <p:nvPr/>
          </p:nvGrpSpPr>
          <p:grpSpPr>
            <a:xfrm>
              <a:off x="0" y="6118560"/>
              <a:ext cx="10077120" cy="0"/>
              <a:chOff x="0" y="6118560"/>
              <a:chExt cx="10077120" cy="0"/>
            </a:xfrm>
          </p:grpSpPr>
          <p:sp>
            <p:nvSpPr>
              <p:cNvPr id="320" name=""/>
              <p:cNvSpPr/>
              <p:nvPr/>
            </p:nvSpPr>
            <p:spPr>
              <a:xfrm>
                <a:off x="0" y="6118560"/>
                <a:ext cx="100771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 txBox="1"/>
              <p:nvPr/>
            </p:nvSpPr>
            <p:spPr>
              <a:xfrm>
                <a:off x="0" y="0"/>
                <a:ext cx="0" cy="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-1512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0" y="6299280"/>
              <a:ext cx="10077120" cy="0"/>
              <a:chOff x="0" y="6299280"/>
              <a:chExt cx="10077120" cy="0"/>
            </a:xfrm>
          </p:grpSpPr>
          <p:sp>
            <p:nvSpPr>
              <p:cNvPr id="323" name=""/>
              <p:cNvSpPr/>
              <p:nvPr/>
            </p:nvSpPr>
            <p:spPr>
              <a:xfrm>
                <a:off x="0" y="6299280"/>
                <a:ext cx="100771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 txBox="1"/>
              <p:nvPr/>
            </p:nvSpPr>
            <p:spPr>
              <a:xfrm>
                <a:off x="0" y="0"/>
                <a:ext cx="0" cy="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-1512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25" name=""/>
          <p:cNvGrpSpPr/>
          <p:nvPr/>
        </p:nvGrpSpPr>
        <p:grpSpPr>
          <a:xfrm>
            <a:off x="0" y="6480000"/>
            <a:ext cx="10078920" cy="719280"/>
            <a:chOff x="0" y="6480000"/>
            <a:chExt cx="10078920" cy="719280"/>
          </a:xfrm>
        </p:grpSpPr>
        <p:sp>
          <p:nvSpPr>
            <p:cNvPr id="326" name=""/>
            <p:cNvSpPr/>
            <p:nvPr/>
          </p:nvSpPr>
          <p:spPr>
            <a:xfrm>
              <a:off x="0" y="6480000"/>
              <a:ext cx="100789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0" y="6659640"/>
              <a:ext cx="100789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8" name=""/>
            <p:cNvGrpSpPr/>
            <p:nvPr/>
          </p:nvGrpSpPr>
          <p:grpSpPr>
            <a:xfrm>
              <a:off x="0" y="6840360"/>
              <a:ext cx="10077120" cy="0"/>
              <a:chOff x="0" y="6840360"/>
              <a:chExt cx="10077120" cy="0"/>
            </a:xfrm>
          </p:grpSpPr>
          <p:sp>
            <p:nvSpPr>
              <p:cNvPr id="329" name=""/>
              <p:cNvSpPr/>
              <p:nvPr/>
            </p:nvSpPr>
            <p:spPr>
              <a:xfrm>
                <a:off x="0" y="6840360"/>
                <a:ext cx="100771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 txBox="1"/>
              <p:nvPr/>
            </p:nvSpPr>
            <p:spPr>
              <a:xfrm>
                <a:off x="0" y="0"/>
                <a:ext cx="0" cy="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-1512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1" name=""/>
            <p:cNvGrpSpPr/>
            <p:nvPr/>
          </p:nvGrpSpPr>
          <p:grpSpPr>
            <a:xfrm>
              <a:off x="0" y="7020000"/>
              <a:ext cx="10077120" cy="0"/>
              <a:chOff x="0" y="7020000"/>
              <a:chExt cx="10077120" cy="0"/>
            </a:xfrm>
          </p:grpSpPr>
          <p:sp>
            <p:nvSpPr>
              <p:cNvPr id="332" name=""/>
              <p:cNvSpPr/>
              <p:nvPr/>
            </p:nvSpPr>
            <p:spPr>
              <a:xfrm>
                <a:off x="0" y="7020000"/>
                <a:ext cx="100771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 txBox="1"/>
              <p:nvPr/>
            </p:nvSpPr>
            <p:spPr>
              <a:xfrm>
                <a:off x="0" y="0"/>
                <a:ext cx="0" cy="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-1512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4" name=""/>
            <p:cNvGrpSpPr/>
            <p:nvPr/>
          </p:nvGrpSpPr>
          <p:grpSpPr>
            <a:xfrm>
              <a:off x="0" y="7199280"/>
              <a:ext cx="10077120" cy="0"/>
              <a:chOff x="0" y="7199280"/>
              <a:chExt cx="10077120" cy="0"/>
            </a:xfrm>
          </p:grpSpPr>
          <p:sp>
            <p:nvSpPr>
              <p:cNvPr id="335" name=""/>
              <p:cNvSpPr/>
              <p:nvPr/>
            </p:nvSpPr>
            <p:spPr>
              <a:xfrm>
                <a:off x="0" y="7199280"/>
                <a:ext cx="100771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 txBox="1"/>
              <p:nvPr/>
            </p:nvSpPr>
            <p:spPr>
              <a:xfrm>
                <a:off x="0" y="0"/>
                <a:ext cx="0" cy="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-1512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7" name=""/>
          <p:cNvSpPr/>
          <p:nvPr/>
        </p:nvSpPr>
        <p:spPr>
          <a:xfrm>
            <a:off x="0" y="7380360"/>
            <a:ext cx="1008072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699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3984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097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7788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478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0177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18728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35720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712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69704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8669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03688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22068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3749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54484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7147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88432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05424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22416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39408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5640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7339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90204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0719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424188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44118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58136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75128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492120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50911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26104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54309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59908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7690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9389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610884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627840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44832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61824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67881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95808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71280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72961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746604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76359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780588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797544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814536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831528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84852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86551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882324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89931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916308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93330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95029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967248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984240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001232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503280" y="5580000"/>
            <a:ext cx="301320" cy="280800"/>
            <a:chOff x="503280" y="5580000"/>
            <a:chExt cx="301320" cy="280800"/>
          </a:xfrm>
        </p:grpSpPr>
        <p:sp>
          <p:nvSpPr>
            <p:cNvPr id="398" name=""/>
            <p:cNvSpPr/>
            <p:nvPr/>
          </p:nvSpPr>
          <p:spPr>
            <a:xfrm>
              <a:off x="503280" y="5595840"/>
              <a:ext cx="284400" cy="26496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20200" y="5580000"/>
              <a:ext cx="284400" cy="26496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503280" y="1717560"/>
            <a:ext cx="301320" cy="281160"/>
            <a:chOff x="503280" y="1717560"/>
            <a:chExt cx="301320" cy="281160"/>
          </a:xfrm>
        </p:grpSpPr>
        <p:sp>
          <p:nvSpPr>
            <p:cNvPr id="401" name=""/>
            <p:cNvSpPr/>
            <p:nvPr/>
          </p:nvSpPr>
          <p:spPr>
            <a:xfrm>
              <a:off x="503280" y="1735200"/>
              <a:ext cx="284400" cy="26352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20200" y="1717560"/>
              <a:ext cx="284400" cy="26352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72960" y="128520"/>
            <a:ext cx="1800" cy="2041560"/>
          </a:xfrm>
          <a:prstGeom prst="line">
            <a:avLst/>
          </a:prstGeom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147600" y="363600"/>
            <a:ext cx="2043000" cy="1440"/>
          </a:xfrm>
          <a:prstGeom prst="line">
            <a:avLst/>
          </a:prstGeom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530280" y="157320"/>
            <a:ext cx="1440" cy="607680"/>
          </a:xfrm>
          <a:prstGeom prst="line">
            <a:avLst/>
          </a:prstGeom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138240" y="500040"/>
            <a:ext cx="608040" cy="1440"/>
          </a:xfrm>
          <a:prstGeom prst="line">
            <a:avLst/>
          </a:prstGeom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39760" y="0"/>
            <a:ext cx="1800" cy="75596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738440" y="0"/>
            <a:ext cx="1440" cy="75596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425680" y="0"/>
            <a:ext cx="1440" cy="75596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092400" y="0"/>
            <a:ext cx="1800" cy="75596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3790800" y="0"/>
            <a:ext cx="1800" cy="75596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628560" y="0"/>
            <a:ext cx="1800" cy="75596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4556160" y="0"/>
            <a:ext cx="1440" cy="75596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5351400" y="0"/>
            <a:ext cx="1800" cy="75596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6097680" y="0"/>
            <a:ext cx="1440" cy="75596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6892920" y="0"/>
            <a:ext cx="1440" cy="75596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7540560" y="0"/>
            <a:ext cx="1800" cy="75596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8159760" y="0"/>
            <a:ext cx="1440" cy="75596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8788320" y="0"/>
            <a:ext cx="1800" cy="75596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9485280" y="0"/>
            <a:ext cx="1800" cy="75596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0" y="598320"/>
            <a:ext cx="10080720" cy="18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0" y="1285920"/>
            <a:ext cx="10080720" cy="14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081160"/>
            <a:ext cx="10080720" cy="18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0" y="2886120"/>
            <a:ext cx="10080720" cy="14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0" y="3622680"/>
            <a:ext cx="10080720" cy="14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0" y="4321080"/>
            <a:ext cx="10080720" cy="18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0" y="4968720"/>
            <a:ext cx="10080720" cy="18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0" y="5646600"/>
            <a:ext cx="10080720" cy="18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0" y="6245280"/>
            <a:ext cx="10080720" cy="14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0" y="6923160"/>
            <a:ext cx="10080720" cy="14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0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/>
          <p:nvPr/>
        </p:nvSpPr>
        <p:spPr>
          <a:xfrm>
            <a:off x="0" y="0"/>
            <a:ext cx="5219640" cy="1017720"/>
          </a:xfrm>
          <a:custGeom>
            <a:avLst/>
            <a:gdLst/>
            <a:ahLst/>
            <a:rect l="l" t="t" r="r" b="b"/>
            <a:pathLst>
              <a:path w="14498" h="2828">
                <a:moveTo>
                  <a:pt x="0" y="0"/>
                </a:moveTo>
                <a:lnTo>
                  <a:pt x="0" y="1236"/>
                </a:lnTo>
                <a:lnTo>
                  <a:pt x="706" y="1631"/>
                </a:lnTo>
                <a:lnTo>
                  <a:pt x="1407" y="1935"/>
                </a:lnTo>
                <a:lnTo>
                  <a:pt x="2157" y="2197"/>
                </a:lnTo>
                <a:lnTo>
                  <a:pt x="2943" y="2418"/>
                </a:lnTo>
                <a:lnTo>
                  <a:pt x="3767" y="2593"/>
                </a:lnTo>
                <a:lnTo>
                  <a:pt x="4625" y="2721"/>
                </a:lnTo>
                <a:lnTo>
                  <a:pt x="5510" y="2801"/>
                </a:lnTo>
                <a:lnTo>
                  <a:pt x="6417" y="2827"/>
                </a:lnTo>
                <a:lnTo>
                  <a:pt x="7329" y="2801"/>
                </a:lnTo>
                <a:lnTo>
                  <a:pt x="8215" y="2721"/>
                </a:lnTo>
                <a:lnTo>
                  <a:pt x="9072" y="2593"/>
                </a:lnTo>
                <a:lnTo>
                  <a:pt x="9895" y="2418"/>
                </a:lnTo>
                <a:lnTo>
                  <a:pt x="10684" y="2197"/>
                </a:lnTo>
                <a:lnTo>
                  <a:pt x="11432" y="1935"/>
                </a:lnTo>
                <a:lnTo>
                  <a:pt x="12136" y="1631"/>
                </a:lnTo>
                <a:lnTo>
                  <a:pt x="12788" y="1293"/>
                </a:lnTo>
                <a:lnTo>
                  <a:pt x="13392" y="920"/>
                </a:lnTo>
                <a:lnTo>
                  <a:pt x="13940" y="513"/>
                </a:lnTo>
                <a:lnTo>
                  <a:pt x="14429" y="78"/>
                </a:lnTo>
                <a:lnTo>
                  <a:pt x="14497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47ff"/>
              </a:gs>
              <a:gs pos="100000">
                <a:srgbClr val="000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0" y="5402160"/>
            <a:ext cx="10080720" cy="2157480"/>
          </a:xfrm>
          <a:prstGeom prst="roundRect">
            <a:avLst>
              <a:gd name="adj" fmla="val 69"/>
            </a:avLst>
          </a:prstGeom>
          <a:gradFill rotWithShape="0">
            <a:gsLst>
              <a:gs pos="0">
                <a:srgbClr val="0047ff"/>
              </a:gs>
              <a:gs pos="100000">
                <a:srgbClr val="000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-33480" y="6459480"/>
            <a:ext cx="5240520" cy="1101960"/>
          </a:xfrm>
          <a:custGeom>
            <a:avLst/>
            <a:gdLst/>
            <a:ahLst/>
            <a:rect l="l" t="t" r="r" b="b"/>
            <a:pathLst>
              <a:path w="14555" h="3060">
                <a:moveTo>
                  <a:pt x="93" y="3059"/>
                </a:moveTo>
                <a:lnTo>
                  <a:pt x="93" y="2102"/>
                </a:lnTo>
                <a:lnTo>
                  <a:pt x="0" y="2065"/>
                </a:lnTo>
                <a:lnTo>
                  <a:pt x="586" y="1659"/>
                </a:lnTo>
                <a:lnTo>
                  <a:pt x="1219" y="1291"/>
                </a:lnTo>
                <a:lnTo>
                  <a:pt x="1898" y="964"/>
                </a:lnTo>
                <a:lnTo>
                  <a:pt x="2620" y="680"/>
                </a:lnTo>
                <a:lnTo>
                  <a:pt x="3383" y="441"/>
                </a:lnTo>
                <a:lnTo>
                  <a:pt x="4180" y="252"/>
                </a:lnTo>
                <a:lnTo>
                  <a:pt x="5008" y="112"/>
                </a:lnTo>
                <a:lnTo>
                  <a:pt x="5864" y="29"/>
                </a:lnTo>
                <a:lnTo>
                  <a:pt x="6745" y="0"/>
                </a:lnTo>
                <a:lnTo>
                  <a:pt x="7625" y="29"/>
                </a:lnTo>
                <a:lnTo>
                  <a:pt x="8479" y="112"/>
                </a:lnTo>
                <a:lnTo>
                  <a:pt x="9308" y="252"/>
                </a:lnTo>
                <a:lnTo>
                  <a:pt x="10104" y="441"/>
                </a:lnTo>
                <a:lnTo>
                  <a:pt x="10868" y="680"/>
                </a:lnTo>
                <a:lnTo>
                  <a:pt x="11590" y="964"/>
                </a:lnTo>
                <a:lnTo>
                  <a:pt x="12269" y="1291"/>
                </a:lnTo>
                <a:lnTo>
                  <a:pt x="12902" y="1659"/>
                </a:lnTo>
                <a:lnTo>
                  <a:pt x="13487" y="2065"/>
                </a:lnTo>
                <a:lnTo>
                  <a:pt x="14018" y="2504"/>
                </a:lnTo>
                <a:lnTo>
                  <a:pt x="14489" y="2976"/>
                </a:lnTo>
                <a:lnTo>
                  <a:pt x="14554" y="3059"/>
                </a:lnTo>
                <a:lnTo>
                  <a:pt x="93" y="3059"/>
                </a:lnTo>
              </a:path>
            </a:pathLst>
          </a:custGeom>
          <a:gradFill rotWithShape="0">
            <a:gsLst>
              <a:gs pos="0">
                <a:srgbClr val="2300dc"/>
              </a:gs>
              <a:gs pos="100000">
                <a:srgbClr val="000080">
                  <a:alpha val="5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ff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e6e6ff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ff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e6e6ff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6e6ff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ff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e6e6ff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ff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e6e6ff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ff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e6e6ff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ff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700" spc="-1" strike="noStrike">
                <a:solidFill>
                  <a:srgbClr val="e6e6ff"/>
                </a:solidFill>
                <a:latin typeface="Times New Roman"/>
              </a:rPr>
              <a:t>Click to edit the title text format</a:t>
            </a:r>
            <a:endParaRPr b="0" lang="en-US" sz="47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8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a64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931680" y="287820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4176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kk-KZ" sz="6600" spc="-1" strike="noStrike">
                <a:solidFill>
                  <a:srgbClr val="6b0094"/>
                </a:solidFill>
                <a:latin typeface="Georgia"/>
              </a:rPr>
              <a:t>Жүрек жылуы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8" name="" descr=""/>
          <p:cNvPicPr/>
          <p:nvPr/>
        </p:nvPicPr>
        <p:blipFill>
          <a:blip r:embed="rId1"/>
          <a:stretch/>
        </p:blipFill>
        <p:spPr>
          <a:xfrm>
            <a:off x="720720" y="4680000"/>
            <a:ext cx="2521080" cy="2457360"/>
          </a:xfrm>
          <a:prstGeom prst="rect">
            <a:avLst/>
          </a:prstGeom>
          <a:ln w="0">
            <a:noFill/>
          </a:ln>
        </p:spPr>
      </p:pic>
      <p:pic>
        <p:nvPicPr>
          <p:cNvPr id="849" name="" descr=""/>
          <p:cNvPicPr/>
          <p:nvPr/>
        </p:nvPicPr>
        <p:blipFill>
          <a:blip r:embed="rId2"/>
          <a:stretch/>
        </p:blipFill>
        <p:spPr>
          <a:xfrm>
            <a:off x="6372360" y="98280"/>
            <a:ext cx="3168360" cy="278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a64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752400" y="30574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kk-KZ" sz="3600" spc="-1" strike="noStrike">
                <a:solidFill>
                  <a:srgbClr val="5c8526"/>
                </a:solidFill>
                <a:latin typeface="Tahoma"/>
              </a:rPr>
              <a:t>«Сен, мен және бәріміз» әнімен аяқтау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a64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700" spc="-1" strike="noStrike">
                <a:solidFill>
                  <a:srgbClr val="5c8526"/>
                </a:solidFill>
                <a:latin typeface="Tahoma"/>
              </a:rPr>
              <a:t>Мақсаты</a:t>
            </a: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kk-KZ" sz="3600" spc="-1" strike="noStrike">
                <a:solidFill>
                  <a:srgbClr val="198a8a"/>
                </a:solidFill>
                <a:latin typeface="Times New Roman"/>
              </a:rPr>
              <a:t>Оқушылардың жаңа ортаға   бейімделуі,   бір-бірімен өзара қарым-қатынас жасауға көмектесу, жағымды хал-ахуал қалыптастыру. Балалардың  өзін-өзі тануды дамытуға жағдай жасау, бағалау және өз-өзіне сенімділіктерін арттыру, топты ынтымақтастыру, біріктіру  бағытында  жұмыстану.  </a:t>
            </a:r>
            <a:endParaRPr b="0" lang="en-US" sz="36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a64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kk-KZ" sz="4400" spc="-1" strike="noStrike">
                <a:solidFill>
                  <a:srgbClr val="5c8526"/>
                </a:solidFill>
                <a:latin typeface="Tahoma"/>
              </a:rPr>
              <a:t>«Жылулық сезіну» жаттығу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kk-KZ" sz="3600" spc="-1" strike="noStrike">
                <a:solidFill>
                  <a:srgbClr val="198a8a"/>
                </a:solidFill>
                <a:latin typeface="Times New Roman"/>
              </a:rPr>
              <a:t>Тренингке қатысушы оқушылар шеңбер құрып тұрады да,  жұмсақ ойыншықты жылжыту арқылы көршісіне жылы лебіз, тілек білдіру ұсынылады, нәтижесінде тыңдаушы алғысын білдіреді. Бәрі қолдарынан ұстап жылулық сыйлайды.</a:t>
            </a:r>
            <a:endParaRPr b="0" lang="en-US" sz="36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a64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kk-KZ" sz="4400" spc="-1" strike="noStrike">
                <a:solidFill>
                  <a:srgbClr val="5c8526"/>
                </a:solidFill>
                <a:latin typeface="Tahoma"/>
              </a:rPr>
              <a:t>«Мектеп жолдары» жаттығу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kk-KZ" sz="2600" spc="-1" strike="noStrike">
                <a:solidFill>
                  <a:srgbClr val="198a8a"/>
                </a:solidFill>
                <a:latin typeface="Times New Roman"/>
              </a:rPr>
              <a:t>Тақтада  немесе шеңбердің ортасында «Мектеп жолдары» суреті жапсырылады. Оқушыларға сөйлемді аяқтау ұсынылады: «Бастауыш сыныпта менің есімде қалған...........», «Бесінші сыныпта маған.......». Барлығы шеңбер бойымен бір-біріне доп немесе жұмсақ ойыншықты кезекпен беру арқылы пікірлесіп айтады. Жүргізуші  қызықты пікірлерге мән беріп, барлық оқушылардың мектептегі тәжірибесіне көңіл аударады. Жүргізуші оқушылардан 5-ші сыныпқа ауысқанда мектеп өмірінде қандай жаңа өзгерістер кездескені жөнінде әңгімелеп беруді ұсынады.</a:t>
            </a:r>
            <a:endParaRPr b="0" lang="en-US" sz="26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a64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741240" y="541080"/>
            <a:ext cx="8607600" cy="14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a64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741240" y="582120"/>
            <a:ext cx="8607600" cy="13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kk-KZ" sz="4400" spc="-1" strike="noStrike">
                <a:solidFill>
                  <a:srgbClr val="5c8526"/>
                </a:solidFill>
                <a:latin typeface="Tahoma"/>
              </a:rPr>
              <a:t>«Кім нені  жақсы көреді?» жаттығу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kk-KZ" sz="2400" spc="-1" strike="noStrike">
                <a:solidFill>
                  <a:srgbClr val="198a8a"/>
                </a:solidFill>
                <a:latin typeface="Times New Roman"/>
              </a:rPr>
              <a:t> </a:t>
            </a:r>
            <a:r>
              <a:rPr b="0" lang="kk-KZ" sz="2800" spc="-1" strike="noStrike">
                <a:solidFill>
                  <a:srgbClr val="198a8a"/>
                </a:solidFill>
                <a:latin typeface="Times New Roman"/>
              </a:rPr>
              <a:t>-Тәттіні жақсы көретіндер бір қадам алға, </a:t>
            </a:r>
            <a:endParaRPr b="0" lang="en-US" sz="28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kk-KZ" sz="2800" spc="-1" strike="noStrike">
                <a:solidFill>
                  <a:srgbClr val="198a8a"/>
                </a:solidFill>
                <a:latin typeface="Times New Roman"/>
              </a:rPr>
              <a:t> </a:t>
            </a:r>
            <a:r>
              <a:rPr b="0" lang="kk-KZ" sz="2800" spc="-1" strike="noStrike">
                <a:solidFill>
                  <a:srgbClr val="198a8a"/>
                </a:solidFill>
                <a:latin typeface="Times New Roman"/>
              </a:rPr>
              <a:t>-мысықтары барлар оң қолдарын көтереді, </a:t>
            </a:r>
            <a:endParaRPr b="0" lang="en-US" sz="28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kk-KZ" sz="2800" spc="-1" strike="noStrike">
                <a:solidFill>
                  <a:srgbClr val="198a8a"/>
                </a:solidFill>
                <a:latin typeface="Times New Roman"/>
              </a:rPr>
              <a:t> </a:t>
            </a:r>
            <a:r>
              <a:rPr b="0" lang="kk-KZ" sz="2800" spc="-1" strike="noStrike">
                <a:solidFill>
                  <a:srgbClr val="198a8a"/>
                </a:solidFill>
                <a:latin typeface="Times New Roman"/>
              </a:rPr>
              <a:t>-футболды жақсы көретіндер тізерлеп  отырады, </a:t>
            </a:r>
            <a:endParaRPr b="0" lang="en-US" sz="28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kk-KZ" sz="2800" spc="-1" strike="noStrike">
                <a:solidFill>
                  <a:srgbClr val="198a8a"/>
                </a:solidFill>
                <a:latin typeface="Times New Roman"/>
              </a:rPr>
              <a:t> </a:t>
            </a:r>
            <a:r>
              <a:rPr b="0" lang="kk-KZ" sz="2800" spc="-1" strike="noStrike">
                <a:solidFill>
                  <a:srgbClr val="198a8a"/>
                </a:solidFill>
                <a:latin typeface="Times New Roman"/>
              </a:rPr>
              <a:t>-сурет салғанды ұнататындар шапалақ ұрады,  </a:t>
            </a:r>
            <a:endParaRPr b="0" lang="en-US" sz="28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kk-KZ" sz="2800" spc="-1" strike="noStrike">
                <a:solidFill>
                  <a:srgbClr val="198a8a"/>
                </a:solidFill>
                <a:latin typeface="Times New Roman"/>
              </a:rPr>
              <a:t> </a:t>
            </a:r>
            <a:r>
              <a:rPr b="0" lang="kk-KZ" sz="2800" spc="-1" strike="noStrike">
                <a:solidFill>
                  <a:srgbClr val="198a8a"/>
                </a:solidFill>
                <a:latin typeface="Times New Roman"/>
              </a:rPr>
              <a:t>- 5 сынып оқушылары солар қолдарынан ұстасады. </a:t>
            </a:r>
            <a:endParaRPr b="0" lang="en-US" sz="28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kk-KZ" sz="2800" spc="-1" strike="noStrike">
                <a:solidFill>
                  <a:srgbClr val="198a8a"/>
                </a:solidFill>
                <a:latin typeface="Times New Roman"/>
              </a:rPr>
              <a:t>    </a:t>
            </a:r>
            <a:r>
              <a:rPr b="0" lang="kk-KZ" sz="2800" spc="-1" strike="noStrike">
                <a:solidFill>
                  <a:srgbClr val="198a8a"/>
                </a:solidFill>
                <a:latin typeface="Times New Roman"/>
              </a:rPr>
              <a:t>Жүргізуші оқушыларды  біріктіретін нәрселер көп екінін айтып түсіндіреді.</a:t>
            </a:r>
            <a:endParaRPr b="0" lang="en-US" sz="28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a64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741240" y="582120"/>
            <a:ext cx="8607600" cy="13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kk-KZ" sz="4400" spc="-1" strike="noStrike">
                <a:solidFill>
                  <a:srgbClr val="5c8526"/>
                </a:solidFill>
                <a:latin typeface="Tahoma"/>
              </a:rPr>
              <a:t>«Менің ең жақсы қасиеттерім» жаттығу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kk-KZ" sz="2400" spc="-1" strike="noStrike">
                <a:solidFill>
                  <a:srgbClr val="198a8a"/>
                </a:solidFill>
                <a:latin typeface="Times New Roman"/>
              </a:rPr>
              <a:t>Нұсқау</a:t>
            </a:r>
            <a:r>
              <a:rPr b="0" lang="kk-KZ" sz="2400" spc="-1" strike="noStrike">
                <a:solidFill>
                  <a:srgbClr val="198a8a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kk-KZ" sz="2400" spc="-1" strike="noStrike">
                <a:solidFill>
                  <a:srgbClr val="198a8a"/>
                </a:solidFill>
                <a:latin typeface="Times New Roman"/>
              </a:rPr>
              <a:t>1. Бұл бағанға өз  мінезіңіздің ең жақсы ерекшеліктерін айту.</a:t>
            </a:r>
            <a:endParaRPr b="0" lang="en-US" sz="24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kk-KZ" sz="2400" spc="-1" strike="noStrike">
                <a:solidFill>
                  <a:srgbClr val="198a8a"/>
                </a:solidFill>
                <a:latin typeface="Times New Roman"/>
              </a:rPr>
              <a:t>2. Мақтан ететін әр түрлі  қабілеттері мен таланттары  туралы айту.</a:t>
            </a:r>
            <a:endParaRPr b="0" lang="en-US" sz="24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kk-KZ" sz="2400" spc="-1" strike="noStrike">
                <a:solidFill>
                  <a:srgbClr val="198a8a"/>
                </a:solidFill>
                <a:latin typeface="Times New Roman"/>
              </a:rPr>
              <a:t>3. Бұл бағанға өмірдің  әр саласында жеткен жетістіктері  туралы айту.</a:t>
            </a:r>
            <a:endParaRPr b="0" lang="en-US" sz="24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198a8a"/>
              </a:solidFill>
              <a:latin typeface="Times New Roman"/>
            </a:endParaRPr>
          </a:p>
        </p:txBody>
      </p:sp>
      <p:graphicFrame>
        <p:nvGraphicFramePr>
          <p:cNvPr id="862" name=""/>
          <p:cNvGraphicFramePr/>
          <p:nvPr/>
        </p:nvGraphicFramePr>
        <p:xfrm>
          <a:off x="1854360" y="2378160"/>
          <a:ext cx="6384600" cy="1222200"/>
        </p:xfrm>
        <a:graphic>
          <a:graphicData uri="http://schemas.openxmlformats.org/drawingml/2006/table">
            <a:tbl>
              <a:tblPr/>
              <a:tblGrid>
                <a:gridCol w="2078640"/>
                <a:gridCol w="2152080"/>
                <a:gridCol w="2153880"/>
              </a:tblGrid>
              <a:tr h="1244880"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kk-K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нің ең жақсы нышандары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aecf00"/>
                    </a:solidFill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kk-K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нің қабілеттерім мен таланттары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aecf00"/>
                    </a:solidFill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kk-K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нің жетістіктері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aecf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a64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720720" y="36036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kk-KZ" sz="4400" spc="-1" strike="noStrike">
                <a:solidFill>
                  <a:srgbClr val="5c8526"/>
                </a:solidFill>
                <a:latin typeface="Tahoma"/>
              </a:rPr>
              <a:t>«Айсберг» жаттығу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720720" y="1800000"/>
            <a:ext cx="8607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kk-KZ" sz="3600" spc="-1" strike="noStrike">
                <a:solidFill>
                  <a:srgbClr val="198a8a"/>
                </a:solidFill>
                <a:latin typeface="Times New Roman"/>
              </a:rPr>
              <a:t>Оқушылар өздерін мұздың үстінде тұрғандай сезінулері керек. Мұз еріген сайын бір-бірін құлатпай,  сол кішкентай мұзға барлығы сыйысып тұрулары керек.</a:t>
            </a:r>
            <a:endParaRPr b="0" lang="en-US" sz="36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kk-KZ" sz="3600" spc="-1" strike="noStrike">
                <a:solidFill>
                  <a:srgbClr val="198a8a"/>
                </a:solidFill>
                <a:latin typeface="Times New Roman"/>
              </a:rPr>
              <a:t>Талдау:</a:t>
            </a:r>
            <a:endParaRPr b="0" lang="en-US" sz="36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kk-KZ" sz="3600" spc="-1" strike="noStrike">
                <a:solidFill>
                  <a:srgbClr val="198a8a"/>
                </a:solidFill>
                <a:latin typeface="Times New Roman"/>
              </a:rPr>
              <a:t>   </a:t>
            </a:r>
            <a:r>
              <a:rPr b="0" lang="kk-KZ" sz="3600" spc="-1" strike="noStrike">
                <a:solidFill>
                  <a:srgbClr val="198a8a"/>
                </a:solidFill>
                <a:latin typeface="Times New Roman"/>
              </a:rPr>
              <a:t>Қандай сезімде болдыңдар?</a:t>
            </a:r>
            <a:endParaRPr b="0" lang="en-US" sz="36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kk-KZ" sz="3600" spc="-1" strike="noStrike">
                <a:solidFill>
                  <a:srgbClr val="198a8a"/>
                </a:solidFill>
                <a:latin typeface="Times New Roman"/>
              </a:rPr>
              <a:t>   </a:t>
            </a:r>
            <a:r>
              <a:rPr b="0" lang="kk-KZ" sz="3600" spc="-1" strike="noStrike">
                <a:solidFill>
                  <a:srgbClr val="198a8a"/>
                </a:solidFill>
                <a:latin typeface="Times New Roman"/>
              </a:rPr>
              <a:t>Кімге ыңғайсыз, қолайсыз болды?</a:t>
            </a:r>
            <a:endParaRPr b="0" lang="en-US" sz="36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a64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371520" y="360360"/>
            <a:ext cx="91692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kk-KZ" sz="4400" spc="-1" strike="noStrike">
                <a:solidFill>
                  <a:srgbClr val="5c8526"/>
                </a:solidFill>
                <a:latin typeface="Tahoma"/>
              </a:rPr>
              <a:t>«Біздің топ жүрегі» жаттығу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178920" y="1618920"/>
            <a:ext cx="9720360" cy="577836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 fontScale="97000"/>
          </a:bodyPr>
          <a:p>
            <a:pPr marL="332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kk-KZ" sz="3600" spc="-1" strike="noStrike">
                <a:solidFill>
                  <a:srgbClr val="198a8a"/>
                </a:solidFill>
                <a:latin typeface="Times New Roman"/>
              </a:rPr>
              <a:t>Оқушылар жаңа бүршік жарған ағашымызға өзіміздің жүрек жылуымызды бере отырып,  оның жайқалып, құлпырып өсуіне көмек берейік. Осы тренингте алған әсерлерімізді ортаға салып, өз жылы лебіз, тілектеріңізді жазып  ілейік.</a:t>
            </a:r>
            <a:endParaRPr b="0" lang="en-US" sz="3600" spc="-1" strike="noStrike">
              <a:solidFill>
                <a:srgbClr val="198a8a"/>
              </a:solidFill>
              <a:latin typeface="Times New Roman"/>
            </a:endParaRPr>
          </a:p>
          <a:p>
            <a:pPr marL="332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kk-KZ" sz="3600" spc="-1" strike="noStrike">
                <a:solidFill>
                  <a:srgbClr val="198a8a"/>
                </a:solidFill>
                <a:latin typeface="Times New Roman"/>
              </a:rPr>
              <a:t>Талдау:</a:t>
            </a:r>
            <a:endParaRPr b="0" lang="en-US" sz="3600" spc="-1" strike="noStrike">
              <a:solidFill>
                <a:srgbClr val="198a8a"/>
              </a:solidFill>
              <a:latin typeface="Times New Roman"/>
            </a:endParaRPr>
          </a:p>
          <a:p>
            <a:pPr marL="332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kk-KZ" sz="3600" spc="-1" strike="noStrike">
                <a:solidFill>
                  <a:srgbClr val="198a8a"/>
                </a:solidFill>
                <a:latin typeface="Times New Roman"/>
              </a:rPr>
              <a:t>Тренинг кезінде алған әсеріңіз?</a:t>
            </a:r>
            <a:endParaRPr b="0" lang="en-US" sz="3600" spc="-1" strike="noStrike">
              <a:solidFill>
                <a:srgbClr val="198a8a"/>
              </a:solidFill>
              <a:latin typeface="Times New Roman"/>
            </a:endParaRPr>
          </a:p>
          <a:p>
            <a:pPr marL="332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kk-KZ" sz="3600" spc="-1" strike="noStrike">
                <a:solidFill>
                  <a:srgbClr val="198a8a"/>
                </a:solidFill>
                <a:latin typeface="Times New Roman"/>
              </a:rPr>
              <a:t>Мектепке, сыныпқа деген </a:t>
            </a:r>
            <a:endParaRPr b="0" lang="en-US" sz="3600" spc="-1" strike="noStrike">
              <a:solidFill>
                <a:srgbClr val="198a8a"/>
              </a:solidFill>
              <a:latin typeface="Times New Roman"/>
            </a:endParaRPr>
          </a:p>
          <a:p>
            <a:pPr marL="332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kk-KZ" sz="3600" spc="-1" strike="noStrike">
                <a:solidFill>
                  <a:srgbClr val="198a8a"/>
                </a:solidFill>
                <a:latin typeface="Times New Roman"/>
              </a:rPr>
              <a:t>көзқарасыңыз қандай?</a:t>
            </a:r>
            <a:endParaRPr b="0" lang="en-US" sz="36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9T08:27:06Z</dcterms:created>
  <dc:creator/>
  <dc:description/>
  <dc:language>en-US</dc:language>
  <cp:lastModifiedBy>Customer</cp:lastModifiedBy>
  <dcterms:modified xsi:type="dcterms:W3CDTF">2012-09-07T10:37:23Z</dcterms:modified>
  <cp:revision>2</cp:revision>
  <dc:subject/>
  <dc:title>Жүрек жылуы</dc:title>
</cp:coreProperties>
</file>